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ECC-B37A-4ABE-A40E-00F4D086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C52-6FB4-4D02-9525-C58BE785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1C9-224B-4C67-BB7D-D45AABDD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EEC-DD54-4488-9EE3-4372215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CDF5-B4B8-4BEF-AE0A-9504B018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80D-2BB2-44D1-B67D-A5697152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A3A-5E53-4CD9-96D4-E624AF7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89F7-792A-4D70-99B8-9669A609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A813-D631-4E41-A3FA-CF1C885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D8A6-1CAE-43BF-9730-F92E39E7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5F53-677F-4670-81AF-CC6008B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290-5077-40FC-A8E1-3225C42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519E-14FE-4B87-B6EE-0938742C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6AF4-27E7-4F4F-8C30-70A7125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5833-0ADC-4C8D-BBE1-B76E238C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7C34-CDF4-4521-8FEE-705CB6F9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A541-7B9E-4FBC-BCC5-AB442AFE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0056-7D7D-4B91-B9FC-94194FC7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E7D7-4892-44A0-9D32-48E75414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1B7C-6BD5-40FC-876F-FB414A1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57DC-A461-4D66-915E-399337E7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B08C-97A7-4BF9-9D5F-91B3967F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A0C-037E-44BD-B9D3-3A6F1B0A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6C9E-F76B-4450-AF63-AFFB4DE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9D45-5463-4DB3-B7BF-F24BE4A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9EFA-CFFC-4E0A-BAD6-2F9DF238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4DA3-80A1-40FA-9EFA-2F7E9E4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7584-D85D-4F54-9E40-D4A3034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464C-96BA-43AB-A9C5-CE133F15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71B2-CAD3-43E1-8CA2-77DC9CC2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B7C37-59D8-483A-845A-FB796B25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0B70-A9C8-44F5-91CD-39AA7D5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971D-C434-4FB3-B906-2F197E14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A56-6FFA-443C-A6FD-6E5429E9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63DD-7F94-4533-9D1C-718E5828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0C4B-294E-42A5-9B48-FF7606D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AA09-B6C6-45A3-91D4-12B1707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AC79-1545-4398-ADE6-6ECC9A5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00D64-60CB-47FA-8553-7D231C6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A3BA-87EC-42DA-AF9A-DE18B16B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6EC59-F2FF-459F-93DB-C0B52B6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BE56-ACFF-492E-B7FC-AB725163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4EAC-2837-4867-A235-4ACB79E6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17C-9E86-4385-B0A8-B4BAA47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A8B-65EB-4DAB-9FED-1C90C201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D4D-F93C-4200-833E-C8CFE639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EF3-70B5-41A6-BE22-B4A75C8F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2A4-75CB-4E6D-B227-373543F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2C6-9EF1-448F-A469-A193EC4F91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095-6FB9-42A2-8A25-AF20C52F7A7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EF9-C91D-4578-9693-D9B975CA731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6874-31F3-462F-8AB2-D8B46216FC6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iki.ucalgary.ca/page/Courses/Computer_Science/CPSC_203/CPSC_203_Template/Labs_Template/Week_1_-_Lab_2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719280"/>
            <a:ext cx="786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19520"/>
            <a:ext cx="7854840" cy="2666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Use Case Descriptio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fafc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flight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deadline of canceling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has not passed, the system refunds money to the user after subtracting the cancelation fe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cels the f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empty seats on the plans are increased by the number of cancelled sea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adline of cancelling the flight has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rror message is provide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86240" indent="-211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an still cancel the flight but with no refu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55008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F17-8A33-4704-BCF5-57638B7F95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other 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/>
              </a:rPr>
              <a:t>http://wiki.ucalgary.ca/page/Courses/Computer_Science/CPSC_203/CPSC_203_Template/Labs_Template/Week_1_-_Lab_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25EC-F401-4A22-9BAD-4085A0324B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Exerc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use case diagram along with a use case description for a shipping company such as UPS or FedE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arrange for a pickup of a package to be delive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check the status of a package, assuming there is a tracking number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must be able to refuse a pack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25480" indent="-4431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determine the next address to deliver a package to, and get directions for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8EC4-5502-4F71-A3C5-0599A474C4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ercise (cont’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people must be able to confirm a package has been delivered, and store the signature of the sign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staff must be able to accept new packages to be shipped, as well as charge custo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s must be able to look at past parcel sending history for a particular location or custom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044E-FBD0-4886-B538-1097AB70B59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s: Nou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ED9-EBD1-4D2F-B706-8F9E435520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http://wiki.ucalgary.ca/images/3/34/Actors.JPG"/>
          <p:cNvPicPr/>
          <p:nvPr/>
        </p:nvPicPr>
        <p:blipFill>
          <a:blip r:embed="rId1"/>
          <a:stretch/>
        </p:blipFill>
        <p:spPr>
          <a:xfrm>
            <a:off x="1828800" y="2666880"/>
            <a:ext cx="6270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n Use C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: A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2C54-9BFF-4483-BA56-107CAAABDA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wiki.ucalgary.ca/images/5/51/Usecasedina.JPG"/>
          <p:cNvPicPr/>
          <p:nvPr/>
        </p:nvPicPr>
        <p:blipFill>
          <a:blip r:embed="rId1"/>
          <a:stretch/>
        </p:blipFill>
        <p:spPr>
          <a:xfrm>
            <a:off x="2362320" y="2743200"/>
            <a:ext cx="5486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 Case Descrip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A222-F1F5-4C53-B43A-869DA919917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C27D-5231-41AF-9C79-3153FA8B201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wiki.ucalgary.ca/images/0/0f/Problemstatement2.JPG"/>
          <p:cNvPicPr/>
          <p:nvPr/>
        </p:nvPicPr>
        <p:blipFill>
          <a:blip r:embed="rId1"/>
          <a:stretch/>
        </p:blipFill>
        <p:spPr>
          <a:xfrm>
            <a:off x="1143000" y="2057400"/>
            <a:ext cx="55627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 a Prof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creates a new profile in the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ed valid information for name, address, phone, and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username that is available in th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se a password that matches system restri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d the passwor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31520" indent="-1969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616-58EB-45A1-B487-7DF97D1B8E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Flo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first name and last 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available countries in the wor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a country of resi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provinces in this count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displays cities in this provi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selects his/her c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the correctness of the e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enters his/her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hecks the correctness of the phone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34EC-D95A-4AAD-93F4-8E2428C65F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availability of this use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hooses a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validates the robustness of this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retypes the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checks if both passwords are match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creates a new profi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F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 data is entered correct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provides an error messages and allows correction up to three tim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ED4-F5BD-492E-9928-A7D8D590F5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: cancel flig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ancel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he user wants to cancel of a booked fl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ser, Syst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Actor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Manag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onditio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logged in the system with valid username and passw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already booked the flight he/she wants to canc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b5395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adline of canceling flight has not pas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4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Design-Week1- L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E80C-B447-41D4-A47A-D51B33372F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4-01T18:43:04Z</dcterms:modified>
  <cp:revision>178</cp:revision>
  <dc:subject/>
  <dc:title>CPSC 203</dc:title>
</cp:coreProperties>
</file>